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0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41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cashreg.wav" ContentType="audio/x-wav"/>
  <Override PartName="/ppt/media/image13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185-5DF5-42C3-B429-0E2E5D5D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000-8623-42E4-97CC-A03129B6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C76-BA6A-4E09-A06E-0ADB79D9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F93-FFE8-4157-B0D5-D2E831DED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18E7-15DA-4E95-AB5C-3E6E8F06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7522-1831-4AEC-B3E0-5C9AFB0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4187-2CC3-4D7C-9023-ECA37A2B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6669-A59D-4BA5-A120-A75F059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4D20-CC64-4819-B0EF-51705A8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B1B1-D8A8-4350-8A3D-3FF4D9E0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46FE-6659-49BB-A6AC-29C63B7E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F32-9114-4ED0-8538-AB442E7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BCC6-E350-4E20-A189-87FE8CA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B50C-61D6-4523-BD08-C1318F90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FF74-B494-41A2-92AB-F9450CCF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CE1-D3BA-40CB-A159-B7CEB437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F68F-E4E4-46C5-8931-BB311B10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E95E-D815-4C8F-8764-17E63CED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6CD4-D75E-4EE5-98E7-13B36C4E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702E-8D9C-4515-B0A6-29B08E06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AFB5F-6549-4A9E-B29F-4805048E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27A52-5EA1-4B57-B506-6DCF9A1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EF4-0A7A-4B69-A3E3-62212150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661D-E9E0-4B9C-BAB7-0EEB045E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3241-A7CB-4F0B-AA70-493DAE6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7D08-E359-47E2-836C-4ECF4862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8D6F5-C157-4DA1-AB64-D12E8CC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D0DD-B29E-4D49-8406-7A9EDEA9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01A4-6A76-42E1-BAB9-B39A4A5C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3361-A005-47A3-B2FF-991099D0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6325D-4C5A-489C-A461-9E60F536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7E8A1-D2B6-4E80-B95B-39A3E65A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B801-6035-4B6E-903C-4F59EAF0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138-9C74-489E-A33A-C95B9C07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B7AB-E137-461A-95E1-A8A879EC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94A28-963C-40E0-9CC9-343D6715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7F39E-4EAD-4D3F-B164-B5CA420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9CDB2-C10B-42B1-B55F-76CC894F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C709-C0B3-4176-9660-D4F78B75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F785-BD98-4D35-9E76-DE34801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DDD7-F582-4A24-9973-1ECD5890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7283-79C8-4477-A8D9-26219BF2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7CBA-B4EC-4901-AA64-2C10250F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B857-3005-4AD5-A8DF-6289AE23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2E6-2F9A-4CD3-A94A-F174F866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6F6CC-1E52-4A00-90D5-A6B50809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41D5-8E56-4507-9273-5EEEA2F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89FD-C4AE-4051-B2EB-BEF6F0AB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E079A-BEDD-4A9E-9793-1A7C4436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44E8E-20F3-4AE7-90A5-D66FD56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DA395-0923-43AD-88A0-2081BDC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2101E-986D-4396-B79D-52CF8C7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CD90-D95E-418A-9EB2-DC44A3D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6BF5-314D-49FF-AC99-7C214F8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03E4-3872-41B6-819B-C77C2F5E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24F5-AA57-41D7-B3F3-D95798D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E1A0-F443-47BC-A57B-B5F04F1F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69CDF-E07D-49B6-ADF9-6B5B9C87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56019-D2DB-461B-B5A9-3DB60187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F3D9-88EF-4B51-919B-679E2076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13C5E-83EA-4EF8-B92B-394E3CB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4694A-698F-4DF6-84C5-117A5A90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CFE28-C280-4BE3-AD28-C71DE09F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3486F-1F1D-482C-9A29-5E812226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2523D-A3AF-4C1A-9D35-A6173D7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CFC46-2D52-4B0B-8C89-9982B6DD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198-360B-441B-9A9B-2FE28076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8BEE-BA4F-4EFB-9A97-4A5F061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A5CFE-EE1A-4E8B-9B38-9BF69BBD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83AC-C9D3-493B-AD19-326E32FB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61363-CF36-48AE-9FFB-E46BFF4A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EAF98-885A-47ED-A6B1-CA8CEACA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EF41D-59C5-4E9F-9C5A-AC8A1C64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CC825-F6A5-48D1-BB38-A4033BFC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9E331-D333-4C89-9828-A86D649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2459-4D8D-4A45-9D3A-53D1C569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8C1FD-E11B-4614-A0A9-A205A83D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9EEE-AA44-4646-B483-301262AB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EC206-4D43-4DA8-99B9-11BDD2F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3C411-02DA-488C-B3D2-1A459CC8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638BE-0244-485C-A8F5-3A1C83B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3B39B-938D-4B26-9253-F6189C5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A3BAC-A5A9-45F9-AD45-AEDA6C6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701-F824-470C-9A42-7531AE8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4E0-7315-4891-9737-A18B0D5F8E1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F493-4E17-4CDC-9BEA-3F8E63073E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64E-77E1-4FC2-BB53-C5C1A3FCF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7051-802E-479D-AF97-F92EB2F9BD64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71E-C2FC-4428-BDB5-5443CC58DE8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5BE-5DB5-4962-B191-77A62CE254F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AAD4-98D7-4695-9AF3-EE854E185E4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520" y="5105160"/>
            <a:ext cx="807696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13 Question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Representative from the Tennesse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peaker of the Hou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220px-John_Boehner_official_portrait.jpg"/>
          <p:cNvPicPr/>
          <p:nvPr/>
        </p:nvPicPr>
        <p:blipFill>
          <a:blip r:embed="rId2"/>
          <a:stretch/>
        </p:blipFill>
        <p:spPr>
          <a:xfrm>
            <a:off x="3048120" y="22860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225px-Harry_Reid_official_portrait_2009.jpg"/>
          <p:cNvPicPr/>
          <p:nvPr/>
        </p:nvPicPr>
        <p:blipFill>
          <a:blip r:embed="rId2"/>
          <a:stretch/>
        </p:blipFill>
        <p:spPr>
          <a:xfrm>
            <a:off x="1447920" y="1828800"/>
            <a:ext cx="2455920" cy="2284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are the two Senators from Tennesse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peaker of the Hous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225px-Lamar_Alexander_official_portrait.jpg"/>
          <p:cNvPicPr/>
          <p:nvPr/>
        </p:nvPicPr>
        <p:blipFill>
          <a:blip r:embed="rId2"/>
          <a:stretch/>
        </p:blipFill>
        <p:spPr>
          <a:xfrm>
            <a:off x="685800" y="1752480"/>
            <a:ext cx="2857680" cy="3568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225px-Bobcorker.jpg"/>
          <p:cNvPicPr/>
          <p:nvPr/>
        </p:nvPicPr>
        <p:blipFill>
          <a:blip r:embed="rId3"/>
          <a:stretch/>
        </p:blipFill>
        <p:spPr>
          <a:xfrm>
            <a:off x="5029200" y="17524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4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7" name="Content Placeholder 3" descr="225px-Speaker_Nancy_Pelosi.jpg"/>
          <p:cNvPicPr/>
          <p:nvPr/>
        </p:nvPicPr>
        <p:blipFill>
          <a:blip r:embed="rId2"/>
          <a:stretch/>
        </p:blipFill>
        <p:spPr>
          <a:xfrm>
            <a:off x="1447920" y="1905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Pro Tempo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1" name="Content Placeholder 3" descr="165px-Daniel_Inouye,_official_Senate_photo_portrait,_2008.jpg"/>
          <p:cNvPicPr/>
          <p:nvPr/>
        </p:nvPicPr>
        <p:blipFill>
          <a:blip r:embed="rId2"/>
          <a:stretch/>
        </p:blipFill>
        <p:spPr>
          <a:xfrm>
            <a:off x="990720" y="1981080"/>
            <a:ext cx="2895480" cy="2514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225px-McCarthyofficial.jpg"/>
          <p:cNvPicPr/>
          <p:nvPr/>
        </p:nvPicPr>
        <p:blipFill>
          <a:blip r:embed="rId2"/>
          <a:stretch/>
        </p:blipFill>
        <p:spPr>
          <a:xfrm>
            <a:off x="1219320" y="1828800"/>
            <a:ext cx="2143080" cy="261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of the Sena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joe biden"/>
          <p:cNvPicPr/>
          <p:nvPr/>
        </p:nvPicPr>
        <p:blipFill>
          <a:blip r:embed="rId2"/>
          <a:stretch/>
        </p:blipFill>
        <p:spPr>
          <a:xfrm>
            <a:off x="1066680" y="1905120"/>
            <a:ext cx="150516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225px-Jon_Kyl,_official_109th_Congress_photo.jpg"/>
          <p:cNvPicPr/>
          <p:nvPr/>
        </p:nvPicPr>
        <p:blipFill>
          <a:blip r:embed="rId2"/>
          <a:stretch/>
        </p:blipFill>
        <p:spPr>
          <a:xfrm>
            <a:off x="762120" y="1828800"/>
            <a:ext cx="214308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225px-Eric_Cantor_headshot.png"/>
          <p:cNvPicPr/>
          <p:nvPr/>
        </p:nvPicPr>
        <p:blipFill>
          <a:blip r:embed="rId2"/>
          <a:stretch/>
        </p:blipFill>
        <p:spPr>
          <a:xfrm>
            <a:off x="1066680" y="1905120"/>
            <a:ext cx="21430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225px-Richard_Durbin_official_photo.jpg"/>
          <p:cNvPicPr/>
          <p:nvPr/>
        </p:nvPicPr>
        <p:blipFill>
          <a:blip r:embed="rId2"/>
          <a:stretch/>
        </p:blipFill>
        <p:spPr>
          <a:xfrm>
            <a:off x="609480" y="1828800"/>
            <a:ext cx="2133720" cy="2590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225px-Sen_Mitch_McConnell_official_cropped.jpg"/>
          <p:cNvPicPr/>
          <p:nvPr/>
        </p:nvPicPr>
        <p:blipFill>
          <a:blip r:embed="rId2"/>
          <a:stretch/>
        </p:blipFill>
        <p:spPr>
          <a:xfrm>
            <a:off x="1143000" y="1752480"/>
            <a:ext cx="220968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Representative from the Tennesse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79" name="Content Placeholder 4" descr="225px-Chuck_Flieschmann,_Official_Portrait,_112th_Congress.jpg"/>
          <p:cNvPicPr/>
          <p:nvPr/>
        </p:nvPicPr>
        <p:blipFill>
          <a:blip r:embed="rId2"/>
          <a:stretch/>
        </p:blipFill>
        <p:spPr>
          <a:xfrm>
            <a:off x="457200" y="1676520"/>
            <a:ext cx="2857680" cy="4305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cover dir="l"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are the two Senators from Tennesse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3" name="Content Placeholder 3" descr="225px-Steny_Hoyer,_official_photo_portrait,_2008.jpg"/>
          <p:cNvPicPr/>
          <p:nvPr/>
        </p:nvPicPr>
        <p:blipFill>
          <a:blip r:embed="rId2"/>
          <a:stretch/>
        </p:blipFill>
        <p:spPr>
          <a:xfrm>
            <a:off x="685800" y="1752480"/>
            <a:ext cx="2857680" cy="3568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3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inority Leader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Pro Tempo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House Maj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President of the Senat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o is the Senate Minority Whip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 advTm="45000">
    <p:cover dir="l"/>
    <p:sndAc>
      <p:stSnd>
        <p:snd r:embed="rId2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7:20:36Z</dcterms:created>
  <dc:creator>SysAdmin</dc:creator>
  <dc:description/>
  <dc:language>en-US</dc:language>
  <cp:lastModifiedBy>SysAdmin</cp:lastModifiedBy>
  <dcterms:modified xsi:type="dcterms:W3CDTF">2012-02-21T16:09:15Z</dcterms:modified>
  <cp:revision>16</cp:revision>
  <dc:subject/>
  <dc:title>House/Senate Leadership Review</dc:title>
</cp:coreProperties>
</file>